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5.jpeg" ContentType="image/jpeg"/>
  <Override PartName="/ppt/media/image10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6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9.wmf" ContentType="image/x-wmf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CC27-63F1-4B53-BC0F-0875F18A6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A878-CEFB-48B1-88B2-7A50DEE55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108B-076F-464C-B5BB-A9F15F060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DF4D-431F-4076-9504-A98D7409C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359F-222B-40D0-A5CD-2DA641268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E14B-68C0-4F01-8BBB-A28B30894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556B-AB0B-48FB-B908-501BDCADC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A5E8-C726-408D-B295-B3AC12E25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EF84-93A7-4C34-B6F2-EF540FA6B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BEDD-62F8-44FE-ABAD-12C004FDD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B252-70F8-410F-B1BC-47AF0637E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FB7F-B4B7-46C8-83CD-8811F6902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87E-3290-4A5F-ADE7-8B06794F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13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CMOS Digital Logic Circuits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ise Margi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nsitivity of inverter output to exact valu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dvantageou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sensitivity is lo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798480" y="3962520"/>
          <a:ext cx="7431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962520"/>
                    <a:ext cx="7431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ise Margi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ur parameters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the VTC of an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well as determin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noise marg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ter is good 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jecting noi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ka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storing signal lev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desirable VO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definitions are provided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13.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se13F04"/>
          <p:cNvPicPr/>
          <p:nvPr/>
        </p:nvPicPr>
        <p:blipFill>
          <a:blip r:embed="rId1"/>
          <a:stretch/>
        </p:blipFill>
        <p:spPr>
          <a:xfrm>
            <a:off x="838080" y="2805120"/>
            <a:ext cx="7467840" cy="23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3"/>
          <p:cNvPicPr/>
          <p:nvPr/>
        </p:nvPicPr>
        <p:blipFill>
          <a:blip r:embed="rId2"/>
          <a:stretch/>
        </p:blipFill>
        <p:spPr>
          <a:xfrm>
            <a:off x="228600" y="6100920"/>
            <a:ext cx="8610480" cy="56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se13F05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329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04920" y="58672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voltage transfer characteristic (VTC) of a logic inverter, illustrating the definition of the critical point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deal VTC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deal VTC is one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ange of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ise Mar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maximum output s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maximum noise margins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tion region should be as nar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equaliz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transition” at midp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ower suppl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verter Implement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ters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nsis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hapters 5 and 6) operate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-controlled swit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, swit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, switch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stors, however,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perf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ff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n resist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 transisto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 (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se13F06"/>
          <p:cNvPicPr/>
          <p:nvPr/>
        </p:nvPicPr>
        <p:blipFill>
          <a:blip r:embed="rId1"/>
          <a:stretch/>
        </p:blipFill>
        <p:spPr>
          <a:xfrm>
            <a:off x="1143000" y="304920"/>
            <a:ext cx="6781680" cy="5381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209680" y="6156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TC of an ideal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se13F07"/>
          <p:cNvPicPr/>
          <p:nvPr/>
        </p:nvPicPr>
        <p:blipFill>
          <a:blip r:embed="rId1"/>
          <a:stretch/>
        </p:blipFill>
        <p:spPr>
          <a:xfrm>
            <a:off x="304920" y="574560"/>
            <a:ext cx="845820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13"/>
          <p:cNvPicPr/>
          <p:nvPr/>
        </p:nvPicPr>
        <p:blipFill>
          <a:blip r:embed="rId2"/>
          <a:stretch/>
        </p:blipFill>
        <p:spPr>
          <a:xfrm>
            <a:off x="152280" y="6248520"/>
            <a:ext cx="8763120" cy="43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verter Implement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laborate implementations of logic inverter exi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plementary pull-up 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U) –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 is 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mplementary pull-down 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D)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D is 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se13F08"/>
          <p:cNvPicPr/>
          <p:nvPr/>
        </p:nvPicPr>
        <p:blipFill>
          <a:blip r:embed="rId1"/>
          <a:stretch/>
        </p:blipFill>
        <p:spPr>
          <a:xfrm>
            <a:off x="4876920" y="4189320"/>
            <a:ext cx="396216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28600" y="4784760"/>
            <a:ext cx="44197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3.8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re elaborate implementation of the logic inverter utilizing two complementary switches. This is the basis of the CMOS inverter that we shall study in Section 13.2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se13F08"/>
          <p:cNvPicPr/>
          <p:nvPr/>
        </p:nvPicPr>
        <p:blipFill>
          <a:blip r:embed="rId1"/>
          <a:stretch/>
        </p:blipFill>
        <p:spPr>
          <a:xfrm>
            <a:off x="609480" y="51444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04920" y="5562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elaborate implementation of the logic inverter utilizing two complementary switches. This is the basis of the CMOS inverter that we shall study in Section 13.2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he operation o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sic element in digital circuits, the logic inver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characterized by such parameters as noise margins, propagation delay, and power dissipaption, and how it is implemented by using one of the three possible arangements of voltage-controlled swicthes (transisto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the three most significant metrics in digital IC design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peed, power dissipation, and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e13F09"/>
          <p:cNvPicPr/>
          <p:nvPr/>
        </p:nvPicPr>
        <p:blipFill>
          <a:blip r:embed="rId1"/>
          <a:stretch/>
        </p:blipFill>
        <p:spPr>
          <a:xfrm>
            <a:off x="2246400" y="228600"/>
            <a:ext cx="4611600" cy="571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13"/>
          <p:cNvPicPr/>
          <p:nvPr/>
        </p:nvPicPr>
        <p:blipFill>
          <a:blip r:embed="rId2"/>
          <a:stretch/>
        </p:blipFill>
        <p:spPr>
          <a:xfrm>
            <a:off x="228600" y="6195960"/>
            <a:ext cx="8610480" cy="41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circuits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 number of logic g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power / heat dissipation is conc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ery-large-scale integ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VLSI) – describes methods to design and impleme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ery comp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grated chi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h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e million ga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r c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tatic 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ower lost when switch is open / clos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not mov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ynamic 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ower lost when switch is opening / clo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mov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676520" y="2057400"/>
          <a:ext cx="57402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402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se13F12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554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13"/>
          <p:cNvPicPr/>
          <p:nvPr/>
        </p:nvPicPr>
        <p:blipFill>
          <a:blip r:embed="rId2"/>
          <a:stretch/>
        </p:blipFill>
        <p:spPr>
          <a:xfrm>
            <a:off x="228600" y="6180120"/>
            <a:ext cx="8610480" cy="47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 (13.35) indicates that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nimize dynamic power dissip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be mini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hortens length of trans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be mini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why modern devices use 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lies, as opposed to 12 or 1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uction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ossible, it goes against the need for increased speed in digital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issue, especially in digital computers,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spe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which a device is capable of ope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ropagation del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ime diff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ween an change in input and reaction at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, this value is characterized employ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pulse”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se13F13"/>
          <p:cNvPicPr/>
          <p:nvPr/>
        </p:nvPicPr>
        <p:blipFill>
          <a:blip r:embed="rId1"/>
          <a:stretch/>
        </p:blipFill>
        <p:spPr>
          <a:xfrm>
            <a:off x="2225520" y="228600"/>
            <a:ext cx="486108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verter fed with the ideal pulse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provides at its output the pulse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 Two delay times are defined as indicated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3.3. yield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veral observ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Outpu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 longer id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l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ape of the output differs from input.  The process is no longer lin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re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ime delay between ed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input pulse and corresponding change in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ing time is defined as the time at which output passes threshold for switching (generally ½ maximu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Invert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agation delay is def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eq13.36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½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L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H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additional follow-up points may be ma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undamental 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nalyzing the dynamic operation of a circuit i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eq13.39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horough familiarity with time respons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ngle-time-constant (STC)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ssential to analysis of such dynamic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view is presented in Appendix E of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ample 13.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monstrates this lin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s of propagation delays and transition times of the logic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se13F15"/>
          <p:cNvPicPr/>
          <p:nvPr/>
        </p:nvPicPr>
        <p:blipFill>
          <a:blip r:embed="rId1"/>
          <a:stretch/>
        </p:blipFill>
        <p:spPr>
          <a:xfrm>
            <a:off x="657360" y="336600"/>
            <a:ext cx="7724520" cy="522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nd wh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MOS has become the domin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chnology for digital IC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ucture, circuit operation, static and dynamic performance analysis, and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 of the CMOS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nthesis and desig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timization of CM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gic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lications of technology scalin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Moore’s La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10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gital IC Technologies and Logic-Circuit Famili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se13F16"/>
          <p:cNvPicPr/>
          <p:nvPr/>
        </p:nvPicPr>
        <p:blipFill>
          <a:blip r:embed="rId1"/>
          <a:stretch/>
        </p:blipFill>
        <p:spPr>
          <a:xfrm>
            <a:off x="228600" y="2286000"/>
            <a:ext cx="8610480" cy="2903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28600" y="5486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gital IC technologies and logic-circuit familie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10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gital IC Technologies and Logic-Circuit Famili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s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MOS displacing bipolar tech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digital appli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logic circuits dissip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ss po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 transistors off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input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ze of MOS transis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been reduced drastically in recent past, more so than bipolar technolog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MOS Invert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logic inverter is shown in Figure 13.17, consist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channel devic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channel devic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employ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manipulate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 0 /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se13F17"/>
          <p:cNvPicPr/>
          <p:nvPr/>
        </p:nvPicPr>
        <p:blipFill>
          <a:blip r:embed="rId1"/>
          <a:stretch/>
        </p:blipFill>
        <p:spPr>
          <a:xfrm>
            <a:off x="4800600" y="1219320"/>
            <a:ext cx="408312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4952880" y="457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MOS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se13F18"/>
          <p:cNvPicPr/>
          <p:nvPr/>
        </p:nvPicPr>
        <p:blipFill>
          <a:blip r:embed="rId1"/>
          <a:stretch/>
        </p:blipFill>
        <p:spPr>
          <a:xfrm>
            <a:off x="696960" y="152280"/>
            <a:ext cx="7761240" cy="246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13"/>
          <p:cNvPicPr/>
          <p:nvPr/>
        </p:nvPicPr>
        <p:blipFill>
          <a:blip r:embed="rId2"/>
          <a:stretch/>
        </p:blipFill>
        <p:spPr>
          <a:xfrm>
            <a:off x="304920" y="2819520"/>
            <a:ext cx="8534160" cy="42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e13F19"/>
          <p:cNvPicPr/>
          <p:nvPr/>
        </p:nvPicPr>
        <p:blipFill>
          <a:blip r:embed="rId3"/>
          <a:stretch/>
        </p:blipFill>
        <p:spPr>
          <a:xfrm>
            <a:off x="666720" y="3505320"/>
            <a:ext cx="7791480" cy="2633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13"/>
          <p:cNvPicPr/>
          <p:nvPr/>
        </p:nvPicPr>
        <p:blipFill>
          <a:blip r:embed="rId4"/>
          <a:stretch/>
        </p:blipFill>
        <p:spPr>
          <a:xfrm>
            <a:off x="390600" y="6275520"/>
            <a:ext cx="8372520" cy="4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1008000"/>
          <a:ext cx="8547120" cy="50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08000"/>
                    <a:ext cx="8547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se13F20"/>
          <p:cNvPicPr/>
          <p:nvPr/>
        </p:nvPicPr>
        <p:blipFill>
          <a:blip r:embed="rId1"/>
          <a:stretch/>
        </p:blipFill>
        <p:spPr>
          <a:xfrm>
            <a:off x="1800360" y="228600"/>
            <a:ext cx="5591160" cy="5638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28600" y="5943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oltage-transfer characteristic of the CMOS inverter whe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matched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se13F22"/>
          <p:cNvPicPr/>
          <p:nvPr/>
        </p:nvPicPr>
        <p:blipFill>
          <a:blip r:embed="rId1"/>
          <a:stretch/>
        </p:blipFill>
        <p:spPr>
          <a:xfrm>
            <a:off x="304920" y="228600"/>
            <a:ext cx="6629400" cy="6356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 rot="5400000">
            <a:off x="4868280" y="2643120"/>
            <a:ext cx="63244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namic operation of a capacitively loaded CMOS inverter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ircui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put and output waveforms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 during the capacitor discharge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ajectory of the operating point as the input goes high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ischarges throug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1295280" y="606600"/>
          <a:ext cx="6535800" cy="57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6600"/>
                    <a:ext cx="6535800" cy="57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ynamic Operation of the CMOS Invert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yze the switching op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CMOS invert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ep #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lace all capacitances in circuit (the various capacitances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by a single equivalent capacitance 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ep #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alyze the resulting capacitively loaded inverter to determine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L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H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termining Propagation Dela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3.22(a) show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MOS inverter with a capaci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nected between its input node and g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rmine propagation delays, app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 ideal pul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ircuit is symmetric, bo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agation delays may be analyzed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gital Logic Invert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sic el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design of digital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s a role parallel to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nalog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Function of the Inve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0 to 1, 1 to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Voltage Transfer Characteristics (V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d in Figure 13.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ynamic Operation of the CMOS Invert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3.64) through (13.68) in textbook yiel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veral observ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component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an be equaliz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selec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tios to equaliz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oportional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igner should strive to redu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 process technology with larger transconductance paramete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’ can result in shorter propagation del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ynamic Operation of the CMOS Inverte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3.64) through (13.68) in textbook yiel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veral observ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ati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result in redu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r supply 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s in low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observations demonstrate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trade-offs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sociated with design of digital logic g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valent circuits for determining the propagation delay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PH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PL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inverter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se13F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34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MOS Logic-Gate Circui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logic gate is extension of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MO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ll-dow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istor /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MO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ll-u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istor /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wo networks are operated by input variables in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mentary fash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ation of a three-input CMOS logic gate. The PUN comprises PMOS transistors, and the PDN comprises NMOS transistor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se13F27"/>
          <p:cNvPicPr/>
          <p:nvPr/>
        </p:nvPicPr>
        <p:blipFill>
          <a:blip r:embed="rId1"/>
          <a:stretch/>
        </p:blipFill>
        <p:spPr>
          <a:xfrm>
            <a:off x="2468520" y="228600"/>
            <a:ext cx="37036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228600" y="5943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pull-down network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se13F28"/>
          <p:cNvPicPr/>
          <p:nvPr/>
        </p:nvPicPr>
        <p:blipFill>
          <a:blip r:embed="rId1"/>
          <a:stretch/>
        </p:blipFill>
        <p:spPr>
          <a:xfrm>
            <a:off x="609480" y="1727280"/>
            <a:ext cx="7797960" cy="337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28600" y="5943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29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pull-up network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4" descr="se13F29"/>
          <p:cNvPicPr/>
          <p:nvPr/>
        </p:nvPicPr>
        <p:blipFill>
          <a:blip r:embed="rId1"/>
          <a:stretch/>
        </p:blipFill>
        <p:spPr>
          <a:xfrm>
            <a:off x="679320" y="1828800"/>
            <a:ext cx="7785360" cy="31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4" descr="se13F30"/>
          <p:cNvPicPr/>
          <p:nvPr/>
        </p:nvPicPr>
        <p:blipFill>
          <a:blip r:embed="rId1"/>
          <a:stretch/>
        </p:blipFill>
        <p:spPr>
          <a:xfrm>
            <a:off x="671400" y="1403280"/>
            <a:ext cx="7802640" cy="4051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304920" y="615636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3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ual and alternative circuit symbols for MOSFET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MOS Logic Gat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2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Two-Input NOR 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3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Two-Input NAND 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4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Complex 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4.6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Exclusive-OR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514600" y="2590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819520" y="2590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1523880" y="3581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523880" y="46483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320040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373392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403848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1676520" y="5715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286000" y="5715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se13F31"/>
          <p:cNvPicPr/>
          <p:nvPr/>
        </p:nvPicPr>
        <p:blipFill>
          <a:blip r:embed="rId1"/>
          <a:stretch/>
        </p:blipFill>
        <p:spPr>
          <a:xfrm>
            <a:off x="152280" y="1592280"/>
            <a:ext cx="2551320" cy="3665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se13F32"/>
          <p:cNvPicPr/>
          <p:nvPr/>
        </p:nvPicPr>
        <p:blipFill>
          <a:blip r:embed="rId2"/>
          <a:stretch/>
        </p:blipFill>
        <p:spPr>
          <a:xfrm>
            <a:off x="3198960" y="1590840"/>
            <a:ext cx="2668320" cy="3666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se13F33"/>
          <p:cNvPicPr/>
          <p:nvPr/>
        </p:nvPicPr>
        <p:blipFill>
          <a:blip r:embed="rId3"/>
          <a:stretch/>
        </p:blipFill>
        <p:spPr>
          <a:xfrm>
            <a:off x="6173640" y="1465200"/>
            <a:ext cx="2741760" cy="402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1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Voltage-Transfer Charactristic (VTC)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3.2. demonstrat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zation of transistor as logic inve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= 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= 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tilize transistor-based amplifier as an invert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treme regions of op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empl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max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have while being interpreted as logic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min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have while being interpreted as logic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mportant performance parameter of the inverter is the amount of power it dissipates.  There are two components of power dissipation: static and dynamic.  The first is the result of current flow in either the 0 or 1 state (or both).  The second occurs when the inverter is switched and has a capacitor loa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Dynamic power dissipati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y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C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eed of operation of the inverter is characterized by its propagation dela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gital logic inverter is the basic building block of digital circuits, just as the amplifier is the basic building block of analog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tic operation of the inverter is described by its voltage-transfer characteristic (VTC).  The VTC determines the inverter noise margins.  In particular, note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verter is implemented using transistors operating as voltage-controlled swit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ric that combines speed of operation and power dissipation is the power delay produc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The lowr the PDP, the more effective the logic-circuit family 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ides speed of operation and power dissipation, the silicon area required for an inverter is the third significant metric in digital IC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ominantly because of its lower power dissipation and good scalability, CMOS is by far the more dominant transistor technology for utilization in logic gate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IC’s usually utilize the minimum channel length of technology avail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inimum area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elected equal to 1.  However, to re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pecially when a major part of C is extrinsic to the inverter. 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rrespondingl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in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237960" y="1290600"/>
            <a:ext cx="8668080" cy="427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6" descr=""/>
          <p:cNvPicPr/>
          <p:nvPr/>
        </p:nvPicPr>
        <p:blipFill>
          <a:blip r:embed="rId1"/>
          <a:stretch/>
        </p:blipFill>
        <p:spPr>
          <a:xfrm>
            <a:off x="257040" y="1557360"/>
            <a:ext cx="862992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237960" y="1871640"/>
            <a:ext cx="866808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se13F01"/>
          <p:cNvPicPr/>
          <p:nvPr/>
        </p:nvPicPr>
        <p:blipFill>
          <a:blip r:embed="rId1"/>
          <a:stretch/>
        </p:blipFill>
        <p:spPr>
          <a:xfrm>
            <a:off x="1447920" y="1066680"/>
            <a:ext cx="6324480" cy="4116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04920" y="6172200"/>
            <a:ext cx="85341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logic inverter operating from a dc supp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se13F02"/>
          <p:cNvPicPr/>
          <p:nvPr/>
        </p:nvPicPr>
        <p:blipFill>
          <a:blip r:embed="rId1"/>
          <a:stretch/>
        </p:blipFill>
        <p:spPr>
          <a:xfrm>
            <a:off x="228600" y="814320"/>
            <a:ext cx="8610480" cy="520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13"/>
          <p:cNvPicPr/>
          <p:nvPr/>
        </p:nvPicPr>
        <p:blipFill>
          <a:blip r:embed="rId2"/>
          <a:stretch/>
        </p:blipFill>
        <p:spPr>
          <a:xfrm>
            <a:off x="228600" y="6259680"/>
            <a:ext cx="8610480" cy="42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13F03"/>
          <p:cNvPicPr/>
          <p:nvPr/>
        </p:nvPicPr>
        <p:blipFill>
          <a:blip r:embed="rId1"/>
          <a:stretch/>
        </p:blipFill>
        <p:spPr>
          <a:xfrm>
            <a:off x="1295280" y="281160"/>
            <a:ext cx="6553440" cy="4900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28600" y="5394240"/>
            <a:ext cx="868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3.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tage transfer characteristic of an inverter. The VTC is approximated by three straight-line segments. Note the four parameters of the VTC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I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their use in determining the noise margins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M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ise Margi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 rot="21540000">
            <a:off x="151920" y="2971800"/>
            <a:ext cx="8915400" cy="253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8:04Z</dcterms:modified>
  <cp:revision>411</cp:revision>
  <dc:subject/>
  <dc:title>Slide 1</dc:title>
</cp:coreProperties>
</file>